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38E-1619-4366-8D35-1F6A445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C46-234A-44D3-85B7-4007FA3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1B9-0C3D-42F4-B6E6-B00B5AF1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752-D9D3-4A6C-8A2A-A4F4B499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970-5426-4F50-B3C6-7DA7A4D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99D-DD9C-41C0-9C87-FDCC75B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75E-0A4E-49EF-9B4F-ECC2C9F3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FE7-01B9-4084-A2DA-97299657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58E-958D-4D55-A4F7-0540E7A9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91B-806A-4E4C-8A2C-03E1E7D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E92-945F-4E91-88E9-D80BD76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6B0-EA8D-460A-A308-25EE8A9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CAFE3-4C5E-4C5B-8AFD-FCAF08D2B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E707E-3B28-42E3-874F-FC4A070DA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6860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8"/>
          <p:cNvSpPr/>
          <p:nvPr/>
        </p:nvSpPr>
        <p:spPr>
          <a:xfrm>
            <a:off x="3772080" y="26668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6705720" y="91440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24159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4"/>
          <a:stretch/>
        </p:blipFill>
        <p:spPr>
          <a:xfrm>
            <a:off x="609480" y="685800"/>
            <a:ext cx="233208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5"/>
          <a:stretch/>
        </p:blipFill>
        <p:spPr>
          <a:xfrm>
            <a:off x="533520" y="3429000"/>
            <a:ext cx="2257200" cy="27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"/>
          <p:cNvPicPr/>
          <p:nvPr/>
        </p:nvPicPr>
        <p:blipFill>
          <a:blip r:embed="rId6"/>
          <a:stretch/>
        </p:blipFill>
        <p:spPr>
          <a:xfrm>
            <a:off x="3809880" y="4038480"/>
            <a:ext cx="19684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82232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857760" y="6858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7467480" y="762120"/>
            <a:ext cx="1016280" cy="123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444760" cy="23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5"/>
          <a:stretch/>
        </p:blipFill>
        <p:spPr>
          <a:xfrm>
            <a:off x="4038480" y="41148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6"/>
          <a:stretch/>
        </p:blipFill>
        <p:spPr>
          <a:xfrm>
            <a:off x="7391520" y="4038480"/>
            <a:ext cx="134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66680" y="507960"/>
            <a:ext cx="1765440" cy="18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591000" y="457200"/>
            <a:ext cx="1962000" cy="196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2286000" cy="141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176508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37160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809880" y="2590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an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572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cad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7720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ele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6629400" y="9144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6858000" y="4038480"/>
            <a:ext cx="1701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4:52:25Z</dcterms:created>
  <dc:creator>Silvia Ferreira</dc:creator>
  <dc:description/>
  <dc:language>en-US</dc:language>
  <cp:lastModifiedBy>Eduardo da Silva</cp:lastModifiedBy>
  <dcterms:modified xsi:type="dcterms:W3CDTF">2012-09-19T17:47:42Z</dcterms:modified>
  <cp:revision>3</cp:revision>
  <dc:subject/>
  <dc:title>Slide 1</dc:title>
</cp:coreProperties>
</file>